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040-8D12-47B3-A013-DF146672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0EBB-5259-41E5-8F4C-61CC9329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99F-A74F-4E65-AF2A-5EB524AD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423-C163-42E7-9974-D958F84B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336-1FDA-4962-9B92-FBBF0B6D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1E8-9215-459A-8F37-4FC9B957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DB8-4B95-4165-932E-D8038B20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C23-9BC9-4D00-B81A-ED275C61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95E-2D78-4145-88B4-04EB9E52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68D-D79C-46B2-9D97-89C9E980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22BC-83FC-4877-BE2D-C2CEFA73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869-CFEE-4FA2-B353-5BA8A7B8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CFC8-7C1C-49A8-ABAA-00FC64095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LC Chalk"/>
              </a:rPr>
              <a:t>Классный час на тему:</a:t>
            </a:r>
            <a:br>
              <a:rPr sz="4800"/>
            </a:br>
            <a:r>
              <a:rPr b="1" lang="ru-RU" sz="5400" spc="-1" strike="noStrike">
                <a:solidFill>
                  <a:srgbClr val="ffffff"/>
                </a:solidFill>
                <a:latin typeface="LC Chalk"/>
              </a:rPr>
              <a:t>ОПЯТЬ ДВОЙК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14360" y="5714640"/>
            <a:ext cx="5057640" cy="4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C Chalk"/>
              </a:rPr>
              <a:t>Г. Лангепас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928800" y="642960"/>
            <a:ext cx="74800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АНГЕПАССКОЕ ГОРОДСКОЕ МУНИЦИПАЛЬНОЕ БЮДЖЕТ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«СРЕДНЯЯ ОБЩЕОБРАЗОВАТЕЛЬНАЯ ШКОЛА № 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00040" y="541440"/>
            <a:ext cx="5357880" cy="5817960"/>
          </a:xfrm>
          <a:prstGeom prst="rect">
            <a:avLst/>
          </a:prstGeom>
          <a:ln w="0">
            <a:noFill/>
          </a:ln>
        </p:spPr>
      </p:pic>
      <p:sp>
        <p:nvSpPr>
          <p:cNvPr id="45" name="Подзаголовок 2"/>
          <p:cNvSpPr/>
          <p:nvPr/>
        </p:nvSpPr>
        <p:spPr>
          <a:xfrm>
            <a:off x="5857920" y="642960"/>
            <a:ext cx="27860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Ф.П. Решет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«Опять двойка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(1540-е – 1950-е 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Как уберечь дневник от двойки и замечани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264312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LC Chalk"/>
              </a:rPr>
              <a:t>Спасибо за участ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5:37:46Z</dcterms:created>
  <dc:creator>Учитель помни это</dc:creator>
  <dc:description/>
  <cp:keywords/>
  <dc:language>en-US</dc:language>
  <cp:lastModifiedBy>Пользователь</cp:lastModifiedBy>
  <dcterms:modified xsi:type="dcterms:W3CDTF">2013-10-28T13:37:15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9990</vt:lpwstr>
  </property>
</Properties>
</file>